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3AF-2CCD-400B-AF28-A4B4A8B9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7DE-2E9E-4176-BFB4-2B09A608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A1D-6C1D-46C6-B06C-342FFEC7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AE4-93FE-4D4A-AD7B-3E3E298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EA7-3F11-484D-ADDF-C5025DB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FC1-ECB2-42A2-9171-AF219A9F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456-C60A-411A-A10C-DB36D43C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43A-9C8E-402A-ADD2-42553DB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D33-A851-4467-A9C8-6272FDA9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6E1-7C94-4579-8486-70A3B2E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13-4A67-4A51-B72D-6445DC2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131-549B-48A1-921A-EFA1F12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6EE7-3D39-4D4E-8150-89C09EE0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 Dogs and C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ay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lves are AW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do all types of things like…hunting,howing an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ooooooo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4120" y="106668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95680" y="3809880"/>
            <a:ext cx="1600200" cy="221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90720" y="304920"/>
            <a:ext cx="2457360" cy="122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0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C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666880" cy="19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2514600" cy="1671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9638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96080" y="152280"/>
            <a:ext cx="130356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867280" y="3352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0" y="3048120"/>
            <a:ext cx="239544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362320" y="4307040"/>
            <a:ext cx="3352680" cy="25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er bre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ers are a inner breed of a lion and a ti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ers cant live in the wild because there bodes to heavy for there  le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3629160" cy="2527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5:05:43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21T16:44:31Z</dcterms:modified>
  <cp:revision>11</cp:revision>
  <dc:subject/>
  <dc:title>Slide 1</dc:title>
</cp:coreProperties>
</file>